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9.wmf" ContentType="image/x-wmf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9C6-694A-4FF6-BDAF-B4C0E48F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12F-D218-46FB-B6C8-AA682D59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9F5-56F4-4842-82F9-5FE56C2A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5F8-E584-40D9-BC7D-D07C1E98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E40-5CC7-4E40-9FF6-61CBDB75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B2C8-203B-4D67-BC63-84050ECA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C651-DEC7-4A25-85D8-2CD4DB32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472-E367-4E4B-AE25-D970910F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AA5F-2F3B-4F90-A268-6CFD3CD8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4C0-1FDC-47F9-A52C-A14ED7D0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0D8-0E61-4FD2-889E-800B28E7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1DD-D525-4AEB-ABFB-800B40CE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4F63-0425-4F92-AA5A-D44151504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urriculum21.com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a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74280" y="228600"/>
            <a:ext cx="67057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51c75"/>
                </a:solidFill>
                <a:latin typeface="Arial"/>
              </a:rPr>
              <a:t>Friends’ Central Schoo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64800" y="1752120"/>
            <a:ext cx="8001000" cy="83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Franklin Gothic Heavy"/>
              </a:rPr>
              <a:t>"Building our Faculty Community"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PLP Year-1 Projec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74640" cy="151452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5969160" y="4724280"/>
            <a:ext cx="4190760" cy="2895480"/>
            <a:chOff x="5969160" y="4724280"/>
            <a:chExt cx="4190760" cy="2895480"/>
          </a:xfrm>
        </p:grpSpPr>
        <p:sp>
          <p:nvSpPr>
            <p:cNvPr id="46" name=""/>
            <p:cNvSpPr/>
            <p:nvPr/>
          </p:nvSpPr>
          <p:spPr>
            <a:xfrm>
              <a:off x="5969160" y="4724280"/>
              <a:ext cx="4190760" cy="28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6045120" y="4876560"/>
              <a:ext cx="3954240" cy="2656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15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a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56480" y="762120"/>
            <a:ext cx="3186000" cy="69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nline community to link our faculty which has been fragmented due t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mit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ampuses separated by severa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263680"/>
            <a:ext cx="6374880" cy="4898880"/>
            <a:chOff x="228600" y="2263680"/>
            <a:chExt cx="6374880" cy="489888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228600" y="2263680"/>
              <a:ext cx="6374880" cy="48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140920" y="2511360"/>
              <a:ext cx="3018240" cy="21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Ou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Sandbo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3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5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07960" y="422280"/>
            <a:ext cx="59436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reated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CSHappeNIN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Faculty 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746840" y="3581280"/>
            <a:ext cx="970200" cy="99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442280" y="6172200"/>
            <a:ext cx="1820880" cy="1096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ush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a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51560" cy="7620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70320" y="380520"/>
            <a:ext cx="4089240" cy="72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CSHappeNINGs is an online space where faculty can share ideas about education, their classrooms as well as relax together in the "faculty lounge."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PLP group, we have used the Ning as a sandbox, adding interest groups and discussions that relate to our passions, and we look forward to introducing the Ning to the rest of the facul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94560" y="2743200"/>
            <a:ext cx="990720" cy="733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 flipV="1">
            <a:off x="4394160" y="1066320"/>
            <a:ext cx="2666880" cy="1295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a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927680" y="2134800"/>
            <a:ext cx="4983120" cy="35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have written an article about our PLP experience for our faculty publication this sp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 will introduce our faculty to the abstract concept of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learning communi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they dip a toe into our own real-life o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FCSHappeNING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3040" y="380880"/>
            <a:ext cx="4526280" cy="6829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232240" y="533520"/>
            <a:ext cx="44960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etting the Word Out!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45280" y="5410080"/>
            <a:ext cx="2114640" cy="22100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ush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a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49200" y="1263600"/>
            <a:ext cx="495288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rther, we are proposing to our summer rea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ittee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urriculum 21 (ed. Heidi Hayes Jacobs, 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selected as 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-school faculty summer reading boo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tie the summer reading into the introduction of FCSHappenings to the facult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ly by having the discussion of the summer reading among faculty take place on the N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587920" y="804960"/>
            <a:ext cx="4086360" cy="6191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117440" y="228600"/>
            <a:ext cx="4238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ummer Read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5000">
    <p:push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a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460840" y="272520"/>
            <a:ext cx="4430880" cy="69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ll to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ing </a:t>
            </a:r>
            <a:r>
              <a:rPr b="1" lang="en-US" sz="3200" spc="-1" strike="noStrike">
                <a:solidFill>
                  <a:srgbClr val="cccc00"/>
                </a:solidFill>
                <a:latin typeface="georgia"/>
              </a:rPr>
              <a:t>guidelin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r use of our 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ing how best 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oll ou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the facul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ing train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 time for teachers to play/work in a lab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533520"/>
            <a:ext cx="4952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oll Out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5257800" cy="3581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ush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skirk</cp:lastModifiedBy>
  <dcterms:modified xsi:type="dcterms:W3CDTF">2010-04-20T20:11:07Z</dcterms:modified>
  <cp:revision>7</cp:revision>
  <dc:subject/>
  <dc:title>PowerPoint Presentation</dc:title>
</cp:coreProperties>
</file>